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7FDE-8E17-4A4A-800D-F3F8AD281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9F0C-1EAF-4B6E-AE64-7D69C5E78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2A78-C541-4BAD-99B6-F524E9FB4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6F05-B7EC-4646-BD80-D5C5B8EF7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83A3D-3209-4D22-9B83-7B8108EB4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BC6F6-4B6C-4D86-9A66-0E387659E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6DAD7-2953-4E8F-9F4A-91DD3A3FB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5D4C8-7040-49CE-93E3-EE57ADA89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C7719-6843-446D-BAC6-44C0A5E7B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C5725-B217-447A-A317-FE1635F64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64CBE-7545-4593-A818-75CDF67E0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1D80-81CF-476A-93FA-8DF309D5E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58448-30A5-452B-8657-7A927C0B1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BAA2B-B51B-41F2-B8A2-A3E742A55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92D26-89F4-401A-82CE-B6595F9A6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EF86B-90CD-481E-A10C-385781022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F9E36-D917-4DFE-9972-BF347E648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DF87-0B35-42B6-8E8A-5DED295C6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9840-4DE0-4829-B4BF-454A6A83A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2AB3-2ADA-4094-A1C7-16F855F02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F752-7A6F-4655-A3B2-7D4582AD6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C149-65D8-4D33-9EF4-7FF1D7F64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4CB2-20E8-44D1-9192-9989E670C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C1FB-DC0F-4C6D-B99F-BD78F2976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D2CB7-9AFF-41B0-A9D8-174831055C60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65040" y="2620800"/>
            <a:ext cx="85917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666720" y="3692160"/>
            <a:ext cx="767736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3C2E1-2B17-4188-88BA-72323BEA46FF}" type="slidenum"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e2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6e2d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1266840"/>
            <a:ext cx="776916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제 </a:t>
            </a:r>
            <a:r>
              <a:rPr b="0" lang="en-US" sz="5600" spc="-1" strike="noStrike">
                <a:solidFill>
                  <a:srgbClr val="6e2d00"/>
                </a:solidFill>
                <a:latin typeface="굴림"/>
                <a:ea typeface="굴림"/>
              </a:rPr>
              <a:t>14</a:t>
            </a: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 </a:t>
            </a:r>
            <a:br>
              <a:rPr sz="5600"/>
            </a:b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애학생의 전환교육</a:t>
            </a:r>
            <a:endParaRPr b="0" lang="en-US" sz="56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240" y="3884760"/>
            <a:ext cx="63975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대구대학교 초등특수교육과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최성규 교수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e2d00"/>
                </a:solidFill>
                <a:latin typeface="굴림"/>
                <a:ea typeface="굴림"/>
              </a:rPr>
              <a:t>개요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삶의 질 </a:t>
            </a:r>
            <a:r>
              <a:rPr b="0" lang="en-US" sz="3400" spc="-1" strike="noStrike">
                <a:solidFill>
                  <a:srgbClr val="6e2d00"/>
                </a:solidFill>
                <a:latin typeface="굴림"/>
                <a:ea typeface="굴림"/>
              </a:rPr>
              <a:t>(Quality of Life)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다양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특수성과 일반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1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정의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생 개인의 필요와 요구에 따라 학교 졸업 후에 도달할 목표중심의 교육과정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그 목적은 학교 졸업 후에 지역사회에서 직업훈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통합된 취업활동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주거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지역사회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여가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평생교육 등의 수월성 보장에 있다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School-to-Work: STW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상위 학교의 진학도 전환교육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교교육을 받는 장애학생에게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EP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요구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유치원부터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2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년까지의 모든 학생 대상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특히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 이상의 아동을 위한 전환교육계획이 포함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ndividualized Transition Program (ITP): 14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될 때 시작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되면 전환교육에 포함되어 있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2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실제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자기결정기술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전환교육 프로그램에 학생의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생태적 접근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환경의 중요성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별화된 계획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- McGill Action Plan (MAP)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의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단계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인에 대한 내력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꿈과 희망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두려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나는 누구인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필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      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우선순위 선정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4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지역사회 경험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;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업과 함께 종교와 문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여가활동 등 포함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5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서비스 조정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장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Pool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제 운영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가족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7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학교와 사업체 협력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3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제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7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차 교육과정의 직업전환교육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기본교육과정에서의 직업과의 성격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국민공통기본교육과정에서의 장애학생을 위한 직업교과목에 대한 선택교육과정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-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공예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포장 조립 운반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농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전자조립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제과 제빵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정보처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상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이료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(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시각장애학생 중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)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질문에 답변할 시간을 주어라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!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338560" y="1627200"/>
            <a:ext cx="43923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30T20:27:11Z</dcterms:created>
  <dc:creator/>
  <dc:description/>
  <dc:language>en-US</dc:language>
  <cp:lastModifiedBy>f</cp:lastModifiedBy>
  <dcterms:modified xsi:type="dcterms:W3CDTF">2007-05-28T01:15:38Z</dcterms:modified>
  <cp:revision>6</cp:revision>
  <dc:subject/>
  <dc:title>제 14장 인지전략</dc:title>
</cp:coreProperties>
</file>